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A9B-61EB-4E99-BCBC-87D023DF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7CC-377E-438B-9366-C0FB3448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5AB-553F-491F-B4CA-D1B20AAA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538-8B6A-4322-B6E0-AFDE42CD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15DB-069B-4AC8-BBF8-DCEDD4D3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0474-19F5-4CD6-ABF3-37E91249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206D-A448-4078-8660-F31570F5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CC56-C14F-4FB5-A5B5-930FE2CD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F4D3-2024-4CAF-B085-EBB2BFF5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BC45-76C8-4BFB-A3FD-0286C13E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ACDC-2786-4C04-A7ED-7DFBCDAD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CD4-ABFC-455C-A48C-96E3D8DD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0404-015C-4D96-9841-2E74CA53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3EF0-B1D1-4B7A-96E3-8680D4E0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8781-5339-4479-993A-6DA6FF08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5BCE-1F16-49DB-80C4-077D7457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CCBB-BF56-4BD0-8A17-029FC55D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90903-7399-41F5-A0F1-1C6B101F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F7450-EAEA-43FD-83E2-9F73C852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231D-13D6-4AF5-A4AB-075ADCF6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BB5B8-0AEC-4B74-9BCA-A9AF7AC9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B1EE-5A09-4E45-8B9D-67BD76FA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6A5-1EE1-462B-AB1B-A9FD3859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C02E7-B8AF-4313-BECA-0B884B3D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5C5A-B229-49C7-90B3-F40BF52C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A61D7-2394-4D45-9B24-5EC05113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F7A87-8215-4308-965E-371A9CAE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C69D7-B957-4CC8-8A84-B0662AE0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BBB57-3A44-499A-B18E-B6392182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F17FC-3243-4D40-A0F8-CD89A503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AC45-9ABA-453A-87E8-1C06BCE4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2AD51-D33B-4434-ACF4-B4422B3C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27C3A-ACDA-4323-9CB7-8FAB5B5A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B41-7460-45E5-BCDD-2EFADFF1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C685E-3EBF-4E2E-A587-E1A1E869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0517-73F5-4689-B925-FF5D1F77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1849B-B834-46F6-89D4-8DFD7B93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72D7F-4EE6-4591-971B-0FF3524C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4E66F-A472-45A8-B32D-FFB5EF3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802B9-46C6-4307-BCA9-98519F59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78849-5A1A-4220-BC5E-B347ACF0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EE9FC-FDC8-4723-901C-AB5CBE1D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D7B92-B930-42CD-A7FD-46417F61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7CF-82B4-49D2-8AB7-CC98378C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50E-9950-4ABC-96E8-A903CA32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DE6-0171-4328-B12C-C9810866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557-934F-4405-AD0E-2606ADAE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1AC-A2BD-42EB-BF2E-2543FAC3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sp>
          <p:nvSpPr>
            <p:cNvPr id="1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7944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0" y="0"/>
                  </a:moveTo>
                  <a:lnTo>
                    <a:pt x="144" y="144"/>
                  </a:lnTo>
                  <a:lnTo>
                    <a:pt x="144" y="3744"/>
                  </a:lnTo>
                  <a:lnTo>
                    <a:pt x="0" y="3888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9440" y="303120"/>
              <a:ext cx="8383680" cy="23040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0" y="0"/>
                  </a:moveTo>
                  <a:lnTo>
                    <a:pt x="144" y="144"/>
                  </a:lnTo>
                  <a:lnTo>
                    <a:pt x="5136" y="144"/>
                  </a:lnTo>
                  <a:lnTo>
                    <a:pt x="5280" y="0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596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144" y="0"/>
                  </a:moveTo>
                  <a:lnTo>
                    <a:pt x="0" y="144"/>
                  </a:lnTo>
                  <a:lnTo>
                    <a:pt x="0" y="3744"/>
                  </a:lnTo>
                  <a:lnTo>
                    <a:pt x="144" y="3888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6248520"/>
              <a:ext cx="8383680" cy="23004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5280" y="144"/>
                  </a:moveTo>
                  <a:lnTo>
                    <a:pt x="5136" y="0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280" y="144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D793-048D-4AFE-B8B4-0E5372F80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grpSp>
          <p:nvGrpSpPr>
            <p:cNvPr id="50" name=""/>
            <p:cNvGrpSpPr/>
            <p:nvPr/>
          </p:nvGrpSpPr>
          <p:grpSpPr>
            <a:xfrm>
              <a:off x="379440" y="303120"/>
              <a:ext cx="8386560" cy="6175440"/>
              <a:chOff x="379440" y="303120"/>
              <a:chExt cx="8386560" cy="6175440"/>
            </a:xfrm>
          </p:grpSpPr>
          <p:sp>
            <p:nvSpPr>
              <p:cNvPr id="51" name=""/>
              <p:cNvSpPr/>
              <p:nvPr/>
            </p:nvSpPr>
            <p:spPr>
              <a:xfrm>
                <a:off x="380880" y="304920"/>
                <a:ext cx="8382240" cy="6172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944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0" y="0"/>
                    </a:moveTo>
                    <a:lnTo>
                      <a:pt x="144" y="144"/>
                    </a:lnTo>
                    <a:lnTo>
                      <a:pt x="144" y="3744"/>
                    </a:lnTo>
                    <a:lnTo>
                      <a:pt x="0" y="38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9440" y="303120"/>
                <a:ext cx="8383680" cy="23040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0" y="0"/>
                    </a:moveTo>
                    <a:lnTo>
                      <a:pt x="144" y="144"/>
                    </a:lnTo>
                    <a:lnTo>
                      <a:pt x="5136" y="144"/>
                    </a:lnTo>
                    <a:lnTo>
                      <a:pt x="52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53596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144" y="0"/>
                    </a:moveTo>
                    <a:lnTo>
                      <a:pt x="0" y="144"/>
                    </a:lnTo>
                    <a:lnTo>
                      <a:pt x="0" y="3744"/>
                    </a:lnTo>
                    <a:lnTo>
                      <a:pt x="144" y="388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0880" y="6248520"/>
                <a:ext cx="8383680" cy="23004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5280" y="144"/>
                    </a:moveTo>
                    <a:lnTo>
                      <a:pt x="5136" y="0"/>
                    </a:lnTo>
                    <a:lnTo>
                      <a:pt x="144" y="0"/>
                    </a:lnTo>
                    <a:lnTo>
                      <a:pt x="0" y="144"/>
                    </a:lnTo>
                    <a:lnTo>
                      <a:pt x="5280" y="144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B507-C813-4BB4-9412-DC89D2B25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sp>
          <p:nvSpPr>
            <p:cNvPr id="100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944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0" y="0"/>
                  </a:moveTo>
                  <a:lnTo>
                    <a:pt x="144" y="144"/>
                  </a:lnTo>
                  <a:lnTo>
                    <a:pt x="144" y="3744"/>
                  </a:lnTo>
                  <a:lnTo>
                    <a:pt x="0" y="3888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440" y="303120"/>
              <a:ext cx="8383680" cy="23040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0" y="0"/>
                  </a:moveTo>
                  <a:lnTo>
                    <a:pt x="144" y="144"/>
                  </a:lnTo>
                  <a:lnTo>
                    <a:pt x="5136" y="144"/>
                  </a:lnTo>
                  <a:lnTo>
                    <a:pt x="5280" y="0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3596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144" y="0"/>
                  </a:moveTo>
                  <a:lnTo>
                    <a:pt x="0" y="144"/>
                  </a:lnTo>
                  <a:lnTo>
                    <a:pt x="0" y="3744"/>
                  </a:lnTo>
                  <a:lnTo>
                    <a:pt x="144" y="3888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6248520"/>
              <a:ext cx="8383680" cy="23004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5280" y="144"/>
                  </a:moveTo>
                  <a:lnTo>
                    <a:pt x="5136" y="0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280" y="144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DCE1-2BE2-404F-81CE-89E85E210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grpSp>
          <p:nvGrpSpPr>
            <p:cNvPr id="149" name=""/>
            <p:cNvGrpSpPr/>
            <p:nvPr/>
          </p:nvGrpSpPr>
          <p:grpSpPr>
            <a:xfrm>
              <a:off x="379440" y="303120"/>
              <a:ext cx="8386560" cy="6175440"/>
              <a:chOff x="379440" y="303120"/>
              <a:chExt cx="8386560" cy="6175440"/>
            </a:xfrm>
          </p:grpSpPr>
          <p:sp>
            <p:nvSpPr>
              <p:cNvPr id="150" name=""/>
              <p:cNvSpPr/>
              <p:nvPr/>
            </p:nvSpPr>
            <p:spPr>
              <a:xfrm>
                <a:off x="380880" y="304920"/>
                <a:ext cx="8382240" cy="6172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7944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0" y="0"/>
                    </a:moveTo>
                    <a:lnTo>
                      <a:pt x="144" y="144"/>
                    </a:lnTo>
                    <a:lnTo>
                      <a:pt x="144" y="3744"/>
                    </a:lnTo>
                    <a:lnTo>
                      <a:pt x="0" y="38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9440" y="303120"/>
                <a:ext cx="8383680" cy="23040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0" y="0"/>
                    </a:moveTo>
                    <a:lnTo>
                      <a:pt x="144" y="144"/>
                    </a:lnTo>
                    <a:lnTo>
                      <a:pt x="5136" y="144"/>
                    </a:lnTo>
                    <a:lnTo>
                      <a:pt x="52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3596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144" y="0"/>
                    </a:moveTo>
                    <a:lnTo>
                      <a:pt x="0" y="144"/>
                    </a:lnTo>
                    <a:lnTo>
                      <a:pt x="0" y="3744"/>
                    </a:lnTo>
                    <a:lnTo>
                      <a:pt x="144" y="388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0880" y="6248520"/>
                <a:ext cx="8383680" cy="23004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5280" y="144"/>
                    </a:moveTo>
                    <a:lnTo>
                      <a:pt x="5136" y="0"/>
                    </a:lnTo>
                    <a:lnTo>
                      <a:pt x="144" y="0"/>
                    </a:lnTo>
                    <a:lnTo>
                      <a:pt x="0" y="144"/>
                    </a:lnTo>
                    <a:lnTo>
                      <a:pt x="5280" y="144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9062-9302-475C-861E-41305DE47A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ir, We Would See Jes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of Christ – Par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9, Lesso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ke 1:1-5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1-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ible 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8960" y="1981080"/>
            <a:ext cx="381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ttering of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quest of 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508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51055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sic Outl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9320" y="1676520"/>
            <a:ext cx="7778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 of Retir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ing Min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s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86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Bible 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tire bible story climaxes in the coming of the Christ and His 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important event in all human history was Deity (Christ in human form) coming to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out this event, no one, not even the best of all the ages, could be saved for in Him (Christ) is sal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Years of Preparation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Luke 1:5-25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irth of John foret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briel announces the birth of John to Zacha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charias doubts, v. 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angel declares that Zacharias shall be mute until the accomplishment of the prediction, v. 19-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932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Years of Preparation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Luke 1:26-38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irth of Jesus foret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 months later, Gabriel announces the birth of Jesus to M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iraculous virgin conception of Holy Spirit, v. 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y Visits Elizabeth, her cousin, v.39-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Mary spoke, Elizabeth’s baby leaped inside her womb, v. 4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zabeth calls Mary “mother of my Lord”, v. 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y’s Song of Exultation and Praise, v. 46-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less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birth of John the Baptist and the birth of Jes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1:28:52Z</dcterms:created>
  <dc:creator> Tab Vines</dc:creator>
  <dc:description/>
  <dc:language>en-US</dc:language>
  <cp:lastModifiedBy>Frank D Vines</cp:lastModifiedBy>
  <dcterms:modified xsi:type="dcterms:W3CDTF">2006-07-05T15:39:28Z</dcterms:modified>
  <cp:revision>9</cp:revision>
  <dc:subject/>
  <dc:title>Sir, We Would See Jesus</dc:title>
</cp:coreProperties>
</file>